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E0D-88DF-485D-BA11-657D75B5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2AA-122B-48D3-96B6-0CEB5D04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8FA-8379-4793-AD80-302E0FCC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DB9-90AC-4D12-AC39-3E042C39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931C-B260-4E7F-B42A-E7BB5919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9080-9828-4A65-817C-7FE829FC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F4FF-2BBE-46B9-BC15-CB585DF4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DF39-577E-46EB-A126-6B5403AC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0897-983C-49BB-9A0C-7AB015FF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E684-74DA-45AD-8244-3BB46C78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9146-BD18-457D-B2E7-17BC31B8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926-E4B0-43A5-8909-E433E549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9B38-5EE3-4350-A43E-7602538F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97B3-31B9-4811-AF90-014B5C3C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8477-2C19-413B-AB41-0314D70F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73B1-6EFE-45DE-82E7-17F67935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2D8B-5B52-425C-A939-D55BD4D9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047F-8250-4B73-BA08-C6A6C5E6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54D7-AEBA-454F-AC31-A8779094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B155-00C9-4C23-A7F1-C6E11D5B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B928-6E37-46EE-AD04-742D0EC3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7988-92CC-45D2-BDEE-A0982105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389-1A21-49F1-8D87-6194159A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6AB61-77BF-4F60-8FD5-0BBA347C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E3FD-13F5-41E2-AFE4-FD55D0C4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ACF8-D860-43A7-BFB8-D7D943CC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C411-7EB9-4554-8D62-ED7BED35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5456-C3E2-498C-9BEF-703E42C2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F5B3-D5F6-4515-BFE0-DCE67069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D59BB-1A5B-47B9-93BB-08021DAC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73272-2C96-4AF0-A6EF-143FED6F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3C85-91C4-4ACB-A6A3-8E2DAAD4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80FD5-3B0D-425E-B7A9-EB1B4E5D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8AE-0189-4156-A113-1C43D00B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87FFB-6934-45FB-BFA4-286D18F8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4C59-7D55-43EB-9E6D-2D51159B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26D7E-19B8-4481-858E-41248DCD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12B2-870C-468E-AA8E-32DAA76D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919C8-2E1D-47F9-8679-B1B9AB3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2E24-F63D-4B0C-AEF6-A5A4A983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5F78-0F5B-465E-9775-2864CC5F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5EF66-BE92-45D4-8A84-5EFE823D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4461-D62D-4F82-BB25-3E533595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ED1E7-3549-461B-8643-A6DA14E1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079-FF5B-4D8A-B236-E8149CB0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61426-3C23-4C12-BBDD-5115699B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D5FC3-4F07-483A-8013-503F0AE1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6E54-368D-4C9B-BCAF-20F41A9D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217D5-4CEA-4DF6-9523-928D5ABA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9F6CB-2D27-4554-AAF9-5B77F3D8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53D10-73D2-40B8-9233-700ECF05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A4D52-436B-4186-B908-DB45FF0E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F103-5198-4E83-9673-E37723A4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FCFEF-059A-42D0-B0DF-8F250AD2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A3A9B-DEE8-4171-9276-A2D5A9BA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6F6-840B-4A2C-8946-8AA1D198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9C009-2E16-42F0-A63F-8A981FBA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91F18-AD32-4130-A4CB-94F86B27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25B84-497E-4E33-B789-99A39B17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C28FF-6065-40D9-B633-E00126C9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7DF32-A900-4CC1-9922-6EB2E5E5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AFDC7-9CC4-4BD4-BB7B-50313621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4F0F7-D783-4500-BFFE-C822B157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9090F-E4E3-4F15-9BC2-22DF0579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49084-8AA2-4641-8C8B-62DBE78F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D9468-5849-41BB-9E01-2ADC29C9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9AD-6CEB-43F6-A5BF-0ACB273C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ED9C8-AD9D-499D-839D-8742C306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B2C1D-6297-4F21-8235-5825F552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E627A-7C9B-460A-879C-D8C4F899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744E2-AA6E-4B99-844E-23A0A180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2C6F1-3A9B-4A38-88F6-DB10D96C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5B2AB-0545-428E-8EDF-56B85ED8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4DE88-CB02-4609-8D44-DFEEF7A1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AF80E-C3D6-4A51-B566-AA48A0EC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F9F95-8698-427D-8F83-A3A0C543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957FA-3B0A-4157-A74C-DD9A3289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11B-5E41-410B-BA2A-BB54239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0FE0F-1087-4C4C-B51D-EAE85C38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5A895-00D6-4319-95A2-828532DE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2CE68-1478-40AD-A646-FF50DC73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8A123-08B0-48C5-895B-FF46A683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D6948-5797-4A94-B0DB-DFA6965F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82D5F-1A7D-4172-8697-651BAFFE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450C9-F2F7-4872-B4E1-34AA6640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9DA84-B90D-4133-93D5-44C44637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F2688-4F22-41D1-A0DB-CE5AF7FF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31ACD-A94A-499F-8949-939FEEB0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43A-D9E4-47C4-99A8-AC901D0E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A0E8-B6F4-4F9B-AD01-6CE3C055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29848-3243-4BCB-A713-469AB703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1F3F4-ADF8-4EFE-B215-AF223154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13589-47C7-4E40-9BDF-018EF6D8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DA9D5-BD76-40FF-9DC2-8EA33796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A7C06-BDE8-4B15-A2FB-5B71B845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14236-3461-466A-B0F1-99346898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dcc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ea22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ea22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096E-C3CB-4B65-BAB6-253C93EAAB29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3092-FDEF-4AFB-8018-FD07EAA03AB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58000"/>
              </a:gs>
              <a:gs pos="50000">
                <a:srgbClr val="76c24d"/>
              </a:gs>
              <a:gs pos="100000">
                <a:srgbClr val="3580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dcc9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ea22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ea22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3779-75B7-4B84-8954-D9612C9FB2CA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86D5-ADE3-4F20-B173-6BAC8605FAB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dcc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88d0f"/>
              </a:gs>
              <a:gs pos="100000">
                <a:srgbClr val="97c781"/>
              </a:gs>
            </a:gsLst>
            <a:lin ang="16200000"/>
          </a:gradFill>
          <a:ln cap="rnd" w="3240">
            <a:solidFill>
              <a:srgbClr val="43761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88d0f"/>
              </a:gs>
              <a:gs pos="100000">
                <a:srgbClr val="97c781"/>
              </a:gs>
            </a:gsLst>
            <a:lin ang="16200000"/>
          </a:gradFill>
          <a:ln cap="rnd" w="3240">
            <a:solidFill>
              <a:srgbClr val="43761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ea22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ea22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95CA-FED9-4AEF-98E0-C62F511CA513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CB9C-44DD-45ED-BDE9-9C9F2FBA2C4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dcc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ea22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ea22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A16A-F486-4B2B-84DE-4C840F5383C3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AB18-AE94-4A23-87C2-0656C9B7CD0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ea22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ea22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A6ED-D820-4148-BCF2-7F5DB39C4D09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B84B-19D6-4E60-AAD9-86F3F8B78F8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dcc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ea22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ea22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AA46-B08E-4B6C-A8F9-FF71175AB195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894C-73CB-40AF-BD69-353C2EACEC1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ea22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ea22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16C9-1A0D-45ED-AB5B-6C94E92DDE5B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975F-A63E-49AE-A349-9D8BC080061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dcc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88d0f"/>
              </a:gs>
              <a:gs pos="100000">
                <a:srgbClr val="97c781"/>
              </a:gs>
            </a:gsLst>
            <a:lin ang="16200000"/>
          </a:gradFill>
          <a:ln cap="rnd" w="3240">
            <a:solidFill>
              <a:srgbClr val="43761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88d0f"/>
              </a:gs>
              <a:gs pos="100000">
                <a:srgbClr val="97c781"/>
              </a:gs>
            </a:gsLst>
            <a:lin ang="16200000"/>
          </a:gradFill>
          <a:ln cap="rnd" w="3240">
            <a:solidFill>
              <a:srgbClr val="43761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ea22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5ea22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C36E-98A3-4F13-BC47-DD6DFEF3615F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AA24-5A2B-4CCD-8A78-0F067E66EE1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0" y="625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015 г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1132920" y="1792440"/>
            <a:ext cx="73512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едатель контрольно-счетного орг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ниципа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ий поселок Новогу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ИЛОВА  ИРИНА  САФРО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с двумя скругленными противолежащими углами 9"/>
          <p:cNvSpPr/>
          <p:nvPr/>
        </p:nvSpPr>
        <p:spPr>
          <a:xfrm flipV="1">
            <a:off x="324000" y="259200"/>
            <a:ext cx="8712000" cy="289080"/>
          </a:xfrm>
          <a:custGeom>
            <a:avLst/>
            <a:gdLst>
              <a:gd name="textAreaLeft" fmla="*/ 6480 w 8712000"/>
              <a:gd name="textAreaRight" fmla="*/ 8705520 w 8712000"/>
              <a:gd name="textAreaTop" fmla="*/ 6480 h 289080"/>
              <a:gd name="textAreaBottom" fmla="*/ 282600 h 289080"/>
            </a:gdLst>
            <a:ahLst/>
            <a:rect l="textAreaLeft" t="textAreaTop" r="textAreaRight" b="textAreaBottom"/>
            <a:pathLst>
              <a:path w="8712200" h="288925">
                <a:moveTo>
                  <a:pt x="23195" y="0"/>
                </a:moveTo>
                <a:lnTo>
                  <a:pt x="8691400" y="0"/>
                </a:lnTo>
                <a:lnTo>
                  <a:pt x="8691399" y="0"/>
                </a:lnTo>
                <a:cubicBezTo>
                  <a:pt x="8702887" y="0"/>
                  <a:pt x="8712200" y="9312"/>
                  <a:pt x="8712200" y="20800"/>
                </a:cubicBezTo>
                <a:lnTo>
                  <a:pt x="8712200" y="265730"/>
                </a:lnTo>
                <a:cubicBezTo>
                  <a:pt x="8712200" y="278540"/>
                  <a:pt x="8701815" y="288924"/>
                  <a:pt x="8689005" y="288925"/>
                </a:cubicBezTo>
                <a:lnTo>
                  <a:pt x="20800" y="288925"/>
                </a:lnTo>
                <a:cubicBezTo>
                  <a:pt x="9312" y="288925"/>
                  <a:pt x="0" y="279612"/>
                  <a:pt x="0" y="268125"/>
                </a:cubicBezTo>
                <a:lnTo>
                  <a:pt x="0" y="23195"/>
                </a:lnTo>
                <a:cubicBezTo>
                  <a:pt x="0" y="10384"/>
                  <a:pt x="10384" y="0"/>
                  <a:pt x="23194" y="0"/>
                </a:cubicBezTo>
                <a:close/>
              </a:path>
            </a:pathLst>
          </a:custGeom>
          <a:solidFill>
            <a:srgbClr val="3366ff"/>
          </a:solidFill>
          <a:ln w="55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1370160" y="189000"/>
            <a:ext cx="6362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иципальное образование рабочий поселок Новогу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324000" y="801720"/>
            <a:ext cx="87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руктура контрольно-счетно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униципального образовани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бочий поселок Новогу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Прямоугольник 7"/>
          <p:cNvGrpSpPr/>
          <p:nvPr/>
        </p:nvGrpSpPr>
        <p:grpSpPr>
          <a:xfrm>
            <a:off x="1773360" y="1914480"/>
            <a:ext cx="2639880" cy="1560600"/>
            <a:chOff x="1773360" y="1914480"/>
            <a:chExt cx="2639880" cy="1560600"/>
          </a:xfrm>
        </p:grpSpPr>
        <p:pic>
          <p:nvPicPr>
            <p:cNvPr id="376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773360" y="1914480"/>
              <a:ext cx="26398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835280" y="1951200"/>
              <a:ext cx="25207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С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обрание</a:t>
              </a:r>
              <a:r>
                <a:rPr b="1" lang="ru-RU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депутатов</a:t>
              </a:r>
              <a:r>
                <a:rPr b="1" lang="ru-RU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МО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рабочий посел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Новогуров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Прямоугольник 8"/>
          <p:cNvGrpSpPr/>
          <p:nvPr/>
        </p:nvGrpSpPr>
        <p:grpSpPr>
          <a:xfrm>
            <a:off x="1773360" y="4280040"/>
            <a:ext cx="2639880" cy="1566720"/>
            <a:chOff x="1773360" y="4280040"/>
            <a:chExt cx="2639880" cy="1566720"/>
          </a:xfrm>
        </p:grpSpPr>
        <p:pic>
          <p:nvPicPr>
            <p:cNvPr id="37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773360" y="4280040"/>
              <a:ext cx="26398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1835280" y="4319640"/>
              <a:ext cx="25207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Глава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М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рабочий поселок Новогуров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Прямоугольник 12"/>
          <p:cNvGrpSpPr/>
          <p:nvPr/>
        </p:nvGrpSpPr>
        <p:grpSpPr>
          <a:xfrm>
            <a:off x="5979960" y="3121200"/>
            <a:ext cx="2633760" cy="1560240"/>
            <a:chOff x="5979960" y="3121200"/>
            <a:chExt cx="2633760" cy="1560240"/>
          </a:xfrm>
        </p:grpSpPr>
        <p:pic>
          <p:nvPicPr>
            <p:cNvPr id="38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5979960" y="3121200"/>
              <a:ext cx="263376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6040440" y="3156120"/>
              <a:ext cx="251928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Контрольно-счетн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ый</a:t>
              </a:r>
              <a:r>
                <a:rPr b="1" lang="ru-RU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орг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МО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рабочий поселок Новогуров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4" name="Прямая со стрелкой 13"/>
          <p:cNvCxnSpPr/>
          <p:nvPr/>
        </p:nvCxnSpPr>
        <p:spPr>
          <a:xfrm>
            <a:off x="4571640" y="2886120"/>
            <a:ext cx="1213560" cy="792720"/>
          </a:xfrm>
          <a:prstGeom prst="straightConnector1">
            <a:avLst/>
          </a:prstGeom>
          <a:ln w="55080">
            <a:solidFill>
              <a:srgbClr val="00addc"/>
            </a:solidFill>
            <a:miter/>
            <a:tailEnd len="med" type="arrow" w="med"/>
          </a:ln>
        </p:spPr>
      </p:cxnSp>
      <p:cxnSp>
        <p:nvCxnSpPr>
          <p:cNvPr id="385" name="Прямая со стрелкой 14"/>
          <p:cNvCxnSpPr/>
          <p:nvPr/>
        </p:nvCxnSpPr>
        <p:spPr>
          <a:xfrm flipV="1">
            <a:off x="4554360" y="4053600"/>
            <a:ext cx="1213920" cy="793080"/>
          </a:xfrm>
          <a:prstGeom prst="straightConnector1">
            <a:avLst/>
          </a:prstGeom>
          <a:ln w="55080">
            <a:solidFill>
              <a:srgbClr val="00addc"/>
            </a:solidFill>
            <a:miter/>
            <a:tailEnd len="med" type="arrow" w="med"/>
          </a:ln>
        </p:spPr>
      </p:cxnSp>
      <p:cxnSp>
        <p:nvCxnSpPr>
          <p:cNvPr id="386" name="Прямая со стрелкой 15"/>
          <p:cNvCxnSpPr/>
          <p:nvPr/>
        </p:nvCxnSpPr>
        <p:spPr>
          <a:xfrm>
            <a:off x="3130200" y="3481560"/>
            <a:ext cx="1080" cy="791280"/>
          </a:xfrm>
          <a:prstGeom prst="straightConnector1">
            <a:avLst/>
          </a:prstGeom>
          <a:ln w="55080">
            <a:solidFill>
              <a:srgbClr val="00addc"/>
            </a:solidFill>
            <a:miter/>
            <a:tailEnd len="med" type="arrow" w="med"/>
          </a:ln>
        </p:spPr>
      </p:cxnSp>
      <p:sp>
        <p:nvSpPr>
          <p:cNvPr id="387" name="Rectangle 11"/>
          <p:cNvSpPr/>
          <p:nvPr/>
        </p:nvSpPr>
        <p:spPr>
          <a:xfrm>
            <a:off x="0" y="30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с двумя скругленными противолежащими углами 9"/>
          <p:cNvSpPr/>
          <p:nvPr/>
        </p:nvSpPr>
        <p:spPr>
          <a:xfrm flipV="1">
            <a:off x="324000" y="259200"/>
            <a:ext cx="8712000" cy="289080"/>
          </a:xfrm>
          <a:custGeom>
            <a:avLst/>
            <a:gdLst>
              <a:gd name="textAreaLeft" fmla="*/ 6480 w 8712000"/>
              <a:gd name="textAreaRight" fmla="*/ 8705520 w 8712000"/>
              <a:gd name="textAreaTop" fmla="*/ 6480 h 289080"/>
              <a:gd name="textAreaBottom" fmla="*/ 282600 h 289080"/>
            </a:gdLst>
            <a:ahLst/>
            <a:rect l="textAreaLeft" t="textAreaTop" r="textAreaRight" b="textAreaBottom"/>
            <a:pathLst>
              <a:path w="8712200" h="288925">
                <a:moveTo>
                  <a:pt x="23195" y="0"/>
                </a:moveTo>
                <a:lnTo>
                  <a:pt x="8691400" y="0"/>
                </a:lnTo>
                <a:lnTo>
                  <a:pt x="8691399" y="0"/>
                </a:lnTo>
                <a:cubicBezTo>
                  <a:pt x="8702887" y="0"/>
                  <a:pt x="8712200" y="9312"/>
                  <a:pt x="8712200" y="20800"/>
                </a:cubicBezTo>
                <a:lnTo>
                  <a:pt x="8712200" y="265730"/>
                </a:lnTo>
                <a:cubicBezTo>
                  <a:pt x="8712200" y="278540"/>
                  <a:pt x="8701815" y="288924"/>
                  <a:pt x="8689005" y="288925"/>
                </a:cubicBezTo>
                <a:lnTo>
                  <a:pt x="20800" y="288925"/>
                </a:lnTo>
                <a:cubicBezTo>
                  <a:pt x="9312" y="288925"/>
                  <a:pt x="0" y="279612"/>
                  <a:pt x="0" y="268125"/>
                </a:cubicBezTo>
                <a:lnTo>
                  <a:pt x="0" y="23195"/>
                </a:lnTo>
                <a:cubicBezTo>
                  <a:pt x="0" y="10384"/>
                  <a:pt x="10384" y="0"/>
                  <a:pt x="23194" y="0"/>
                </a:cubicBezTo>
                <a:close/>
              </a:path>
            </a:pathLst>
          </a:custGeom>
          <a:solidFill>
            <a:srgbClr val="0000ff"/>
          </a:solidFill>
          <a:ln w="55080">
            <a:solidFill>
              <a:srgbClr val="4376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1619640" y="11592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образование рабочий поселок Новогу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324000" y="61740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лномочия контрольно-счетного орг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с одним вырезанным углом 2"/>
          <p:cNvSpPr/>
          <p:nvPr/>
        </p:nvSpPr>
        <p:spPr>
          <a:xfrm>
            <a:off x="324000" y="1027080"/>
            <a:ext cx="8712000" cy="5426280"/>
          </a:xfrm>
          <a:custGeom>
            <a:avLst/>
            <a:gdLst>
              <a:gd name="textAreaLeft" fmla="*/ 0 w 8712000"/>
              <a:gd name="textAreaRight" fmla="*/ 8313120 w 8712000"/>
              <a:gd name="textAreaTop" fmla="*/ 452160 h 5426280"/>
              <a:gd name="textAreaBottom" fmla="*/ 5426640 h 5426280"/>
            </a:gdLst>
            <a:ahLst/>
            <a:rect l="textAreaLeft" t="textAreaTop" r="textAreaRight" b="textAreaBottom"/>
            <a:pathLst>
              <a:path w="8712000" h="4788000">
                <a:moveTo>
                  <a:pt x="0" y="0"/>
                </a:moveTo>
                <a:lnTo>
                  <a:pt x="7913984" y="0"/>
                </a:lnTo>
                <a:lnTo>
                  <a:pt x="8712000" y="798016"/>
                </a:lnTo>
                <a:lnTo>
                  <a:pt x="8712000" y="4788000"/>
                </a:lnTo>
                <a:lnTo>
                  <a:pt x="0" y="4788000"/>
                </a:lnTo>
                <a:close/>
              </a:path>
            </a:pathLst>
          </a:custGeom>
          <a:solidFill>
            <a:srgbClr val="3366ff"/>
          </a:solidFill>
          <a:ln w="5508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"/>
          <p:cNvSpPr/>
          <p:nvPr/>
        </p:nvSpPr>
        <p:spPr>
          <a:xfrm>
            <a:off x="468360" y="1050840"/>
            <a:ext cx="82803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контроль за исполнением местного бюджет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экспертиза проектов местного бюджет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внешняя проверка годового отчета об исполнении местного бюджет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организация и осуществление контроля за законностью, результативностью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(эффективностью</a:t>
            </a:r>
            <a:r>
              <a:rPr b="1" lang="ru-RU" sz="1500" spc="-1" strike="noStrike">
                <a:solidFill>
                  <a:srgbClr val="d6ecff"/>
                </a:solidFill>
                <a:latin typeface="Arial"/>
              </a:rPr>
              <a:t> и экономностью</a:t>
            </a: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) использования средств местного бюджет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контроль за соблюдением установленного порядка управления и распоряжения имуществом, находящимся в муниципальной собственност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оценка эффективности предоставления налоговых и иных льгот и преимуществ, бюджетны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кредитов  за счет средств местного бюджет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финансово-экономическая экспертиза проектов муниципальных правовых актов в част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касающейся расходных обязательств муниципального образования рабочий поселок Новогуровский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подготовка информации о ходе исполнения местного бюджета, о результатах провед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контрольных  и экспертно-аналитических мероприятий и представление такой информаци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в Собрание депутатов и главе муниципального образования рабочий поселок Новогуровский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участие в пределах полномочий в мероприятиях, направленных на противодействие коррупц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иные полномочия в сфере внешнего муниципального финансового контроля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        </a:t>
            </a:r>
            <a:r>
              <a:rPr b="1" lang="ru-RU" sz="1500" spc="-1" strike="noStrike">
                <a:solidFill>
                  <a:srgbClr val="d6ecff"/>
                </a:solidFill>
                <a:latin typeface="Calibri"/>
              </a:rPr>
              <a:t>установленные федеральными законами, законами Тульской области, Уставом муниципального образования рабочий поселок Новогуровский и нормативными правовыми актами Собрания депутатов МО рабочий поселок Новогуровск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d6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AA2A-9697-4453-8A86-38B1D93B072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-42840" y="808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ланы на 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с двумя скругленными противолежащими углами 19"/>
          <p:cNvSpPr/>
          <p:nvPr/>
        </p:nvSpPr>
        <p:spPr>
          <a:xfrm flipV="1">
            <a:off x="324000" y="259200"/>
            <a:ext cx="8712000" cy="289080"/>
          </a:xfrm>
          <a:custGeom>
            <a:avLst/>
            <a:gdLst>
              <a:gd name="textAreaLeft" fmla="*/ 6480 w 8712000"/>
              <a:gd name="textAreaRight" fmla="*/ 8705520 w 8712000"/>
              <a:gd name="textAreaTop" fmla="*/ 6480 h 289080"/>
              <a:gd name="textAreaBottom" fmla="*/ 282600 h 289080"/>
            </a:gdLst>
            <a:ahLst/>
            <a:rect l="textAreaLeft" t="textAreaTop" r="textAreaRight" b="textAreaBottom"/>
            <a:pathLst>
              <a:path w="8712968" h="288032">
                <a:moveTo>
                  <a:pt x="23123" y="0"/>
                </a:moveTo>
                <a:lnTo>
                  <a:pt x="8692233" y="0"/>
                </a:lnTo>
                <a:lnTo>
                  <a:pt x="8692232" y="0"/>
                </a:lnTo>
                <a:cubicBezTo>
                  <a:pt x="8703684" y="0"/>
                  <a:pt x="8712968" y="9283"/>
                  <a:pt x="8712968" y="20735"/>
                </a:cubicBezTo>
                <a:lnTo>
                  <a:pt x="8712968" y="264909"/>
                </a:lnTo>
                <a:cubicBezTo>
                  <a:pt x="8712968" y="277679"/>
                  <a:pt x="8702615" y="288031"/>
                  <a:pt x="8689845" y="288032"/>
                </a:cubicBezTo>
                <a:lnTo>
                  <a:pt x="20735" y="288032"/>
                </a:lnTo>
                <a:cubicBezTo>
                  <a:pt x="9283" y="288032"/>
                  <a:pt x="0" y="278748"/>
                  <a:pt x="0" y="267297"/>
                </a:cubicBezTo>
                <a:lnTo>
                  <a:pt x="0" y="23123"/>
                </a:lnTo>
                <a:cubicBezTo>
                  <a:pt x="0" y="10352"/>
                  <a:pt x="10352" y="0"/>
                  <a:pt x="23122" y="0"/>
                </a:cubicBezTo>
                <a:close/>
              </a:path>
            </a:pathLst>
          </a:custGeom>
          <a:solidFill>
            <a:srgbClr val="3366ff"/>
          </a:solidFill>
          <a:ln w="55080">
            <a:solidFill>
              <a:srgbClr val="4376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2"/>
          <p:cNvSpPr/>
          <p:nvPr/>
        </p:nvSpPr>
        <p:spPr>
          <a:xfrm>
            <a:off x="1692720" y="189000"/>
            <a:ext cx="62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образование рабочий поселок Новогу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95280" y="2060640"/>
            <a:ext cx="8513640" cy="27709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1 экспертно-аналитическое мероприятие по предварительному контролю формирования бюдж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5 экспертно-аналитических мероприятий по текущему контролю исполнения бюдж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3 контрольных мероприятия - проверка финансово-хозяйственной деятельности трех муниципальных казенных учрежд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1 экспертно-аналитическое мероприятие по проведению аудита в сфере закуп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Мероприятия по организационному, информационному, аналитическому и методическому обеспечению  деятельности контрольно-счетного органа муниципального образования рабочий поселок Новогуровск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826920" y="227628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5b6f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0:24:38Z</dcterms:created>
  <dc:creator>Laptev</dc:creator>
  <dc:description/>
  <dc:language>en-US</dc:language>
  <cp:lastModifiedBy>User</cp:lastModifiedBy>
  <dcterms:modified xsi:type="dcterms:W3CDTF">2015-04-29T21:33:45Z</dcterms:modified>
  <cp:revision>575</cp:revision>
  <dc:subject/>
  <dc:title>Отчет  главы администрации муниципального образования Дубенский район</dc:title>
</cp:coreProperties>
</file>